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E9C-99A1-4D6E-91D2-413F38B8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C62-34E1-4182-AE20-0CA87FE7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414-D769-4DCA-B735-E5FE1E5C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ADE-B2C7-4B65-954B-FA8964CA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454-6988-471C-AE1B-7090A831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5DB-B3E0-4229-A832-625AF6A3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8FC-6892-4D82-918F-01899091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265-FBA4-488C-9B06-766ADE9F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295-3304-4C34-96ED-8BEDAE2F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481-8216-471D-8CCF-35C00AFA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3F0-DF17-484C-B3A3-2EA34041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582-97FE-4DFA-A306-08B212F2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9C9F-19E7-4597-AD99-62C34588C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Brush Script MT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Greasy Govern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s serve a term for six years and may be elected for back-to-back term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2209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 </dc:creator>
  <dc:description/>
  <dc:language>en-US</dc:language>
  <cp:lastModifiedBy> </cp:lastModifiedBy>
  <dcterms:modified xsi:type="dcterms:W3CDTF">2010-12-14T15:41:19Z</dcterms:modified>
  <cp:revision>2</cp:revision>
  <dc:subject/>
  <dc:title>Present Day Russia</dc:title>
</cp:coreProperties>
</file>